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6242-B0AD-45E1-855B-B39E5A404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 days starting on day two of a four-day and continuing to the first day of the following four-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more you will get to wake up at home…with your family, participating in getting the kids ready for school, interacting.  Not spending money on gas, not adding to pollution.  A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60 more</a:t>
            </a:r>
            <a:r>
              <a:rPr b="0" lang="en-US" sz="1000" spc="-1" strike="noStrike">
                <a:solidFill>
                  <a:srgbClr val="ff0000"/>
                </a:solidFill>
                <a:latin typeface="Arial"/>
              </a:rPr>
              <a:t> (50% increase) days that you wake up at hom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chedule yields TWO Sat./Sun. off every three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96 yields THREE Sat./Sun. off every three r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ne of the biggest advantages of the 48/96 is that it allows employee more opportunity to recover from sleep deprivation/ long-term fatigue</a:t>
            </a:r>
            <a:r>
              <a:rPr b="0" lang="en-US" sz="1200" spc="-1" strike="noStrike">
                <a:solidFill>
                  <a:srgbClr val="000000"/>
                </a:solidFill>
                <a:latin typeface="Arial"/>
              </a:rPr>
              <a:t>.  How is this true?  Firefighters found that they were not getting the rest needed between duty days with the modified Kelly schedule.  They were at home raising families, working other jobs, or working on their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y employees support the 48/96 because of the fact that over time the schedule can significantly reduce fatigu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s did not report an increase in fatigue through each of the 48-hour tou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regards to short-term fatigue, members stated that their levels of fatigue were comparable or higher on the 3rd shift of the Kelly schedule, which offers no significant rest periods between shifts, when compared with the second shift of the 48/96.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s that have switched to the 48/96 schedule have seen no increases in injuries or disabilities resulting from the schedule chan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many departments have seen a reduction in sick leave us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fatigue also exists with the Kelly (3/4) schedule and with any schedule where an employee can be expected to work for extended hours. Employees working extended shifts, 48s &amp; 72s, is not new to ERFPD.  It happens much of the time and without second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of which schedule we work we will have exceptionally busy shifts or periods from time to time which will require adjustments to the daily routine.  That’s the nature of the fire service.  Departments contacted felt that short-term fatigue was not any more of a significant issue than with other work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fatigue becomes a serious issue when coupled with long-term fatigue and we are going to talk about that next.  </a:t>
            </a:r>
            <a:r>
              <a:rPr b="0" i="1" lang="en-US" sz="1200" spc="-1" strike="noStrike">
                <a:solidFill>
                  <a:srgbClr val="000000"/>
                </a:solidFill>
                <a:latin typeface="Arial"/>
              </a:rPr>
              <a:t>One of the biggest advantages of the 48/96 is that it allows employee more opportunity to recover from sleep deprivation/ long-term fatigu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an employee leaves work he goes on  a 4-day/rest period.  In addition, the frequency of “4-days increases to 60 “4-days” compared to 40 on the Kelly sk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ployee who works overtime shifts during their “4-days” sees his/her  percentage of “4-days” increase even more significa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mployee who works an average of 10 overtime shifts a year, during their “4 days”, can see an increase of “4-days” of 67% from 30 to 50 a year[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 employee who works 20 overtime shift a year, during their “4 days”, can see a  a doubling in the number of “4-day” on an annual basis from 20 to 40 a year.  </a:t>
            </a:r>
            <a:br>
              <a:rPr sz="1200"/>
            </a:br>
            <a:r>
              <a:rPr b="0" lang="en-US" sz="1200" spc="-1" strike="noStrike">
                <a:solidFill>
                  <a:srgbClr val="000000"/>
                </a:solidFill>
                <a:latin typeface="Arial"/>
              </a:rPr>
              <a:t>[1] On Kelly schedule: working 10 overtime shifts during  “4-days” decreases the number of “4-days” from 40 to 30, on the 48/96: working 10 overtime shifts during “4-days” decreases the number of “4-days” from 60 to 50. – On Kelly schedule: working 20 overtime shifts during “4-days” decreases the number of “4-days” from 40 to 20, on the 48/96: working 20 overtime shifts during “4-days” decreases the number of “4-days” from 60 to 4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overtime shifts during employees “4-days” has a similar effect in increasing the percentage of “sleep in days” when compared to the Kelly schedule.  In other words, when looking at the overtime formulas in the previous slide, the same general rule applies.  There are so many more days off at home that the numbers are in the fav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duction of time spent in the commute reduce both stress and fatigue.  At this time this point may not go far in that only one person commutes from Denver.  However, this would hold true for those who would choose to live where it is cheaper to live and still maintain employment with Eagle River Fi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48/96?  Exactly what it says….48 hours on and 96 hours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hing different that has been 100% accepted by the fire departments that use it.  As I will mention later, we have yet to find a department that has moved away from this schedule after implement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hing progressive.  This could really bring some attention to our department in the state.  We are currently unaware of a department in Colorado that uses this schedule.  We could be the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this to be true.  The reason for this is the disappearance of having to drag tired bodies in on the third day of a tour.  Elaborate further if need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nthly sick leave use averaged 7.5 days/month for the 24 months prior to changing from the Kelly to the 48/96 schedule.  After switching to the 48/96 sick leave usage dropped to an average of 6 days/month.  Data provided by Bill Wilson of the Pacifica Fire 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neapolis Fire schedule consists of one shift working a 48/96 with the remaining shifts working a modified Kelly schedule.  Monthly sick leave use averaged 166 days/month for the 24 months prior to changing from the Kelly to the 48/96.  After switching to the modified 48/96-schedule, sick leave usage dropped to an average of 110 days/month.  The shift working the 48/96, the C-shift, saw a reduction of sick leave from the department monthly average (per shift, i.e. A, B or C shift) of 66 days/month to 43 days/month. Information provided by BC Jim Clack, Minneapolis Fire Departm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econd note, I personally am tired of this term.  If I had another I would use it.  The bottom line is that this does not change anything in the number of days serving the public.  All it does is restructure them in a way that has proven to be beneficial to firefighters and their departments alik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cases, a simple majority was needed to approve a trial period. Votes for the </a:t>
            </a:r>
            <a:r>
              <a:rPr b="0" i="1" lang="en-US" sz="1200" spc="-1" strike="noStrike">
                <a:solidFill>
                  <a:srgbClr val="000000"/>
                </a:solidFill>
                <a:latin typeface="Arial"/>
              </a:rPr>
              <a:t>initial</a:t>
            </a:r>
            <a:r>
              <a:rPr b="0" lang="en-US" sz="1200" spc="-1" strike="noStrike">
                <a:solidFill>
                  <a:srgbClr val="000000"/>
                </a:solidFill>
                <a:latin typeface="Arial"/>
              </a:rPr>
              <a:t> trial period ranged from 52% to 84% in favor. The final votes to adopt the schedule at the end of the 1-year trial period ranged from 90% to 100% in favor. Only two were below 90%, one at 80% and one at 75%.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seg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ly California and western U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seg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earch has been done regarding the overall idea her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found here was that some of the departments were like ours… small to medium size departments with sporadic call volume.  We also found that some of the departments were NOT like ours……… they are much larger departments, running many more calls than we do here…..they are operating very successful under the proposed 48/4’s schedu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ALS- we believe this to be very important as their thought processes can be much more involved in times of fatigue that those of Eagle River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ears- it must work well otherwise it would not still be in place (If they question this- contracts that this may have been negotiated out of by n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think we are comparing apples to oranges here….we do not believe this to be the case in this situation……we believe that by showing you the busiest departments successfully on this schedule will show you that call volume should NOT be a factor in your decision 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per tour- now running 24 to 34 calls per tour.  This means mor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re telling findings the 48/96 Committee identified was that all of the departments working the 48/96 share an overwhelming level of satisfaction with the schedul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96 and Kelly Schedules are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fferences for admin.  i.e. payrol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get down to the specific numbers of each schedule- they are as follow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increase in the number of 4-day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increase in the number of 4-day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more time to… </a:t>
            </a:r>
            <a:r>
              <a:rPr b="0" lang="en-US" sz="1200" spc="-1" strike="noStrike">
                <a:solidFill>
                  <a:srgbClr val="000000"/>
                </a:solidFill>
                <a:latin typeface="Arial"/>
              </a:rPr>
              <a:t>	</a:t>
            </a:r>
            <a:r>
              <a:rPr b="0" lang="en-US" sz="1200" spc="-1" strike="noStrike">
                <a:solidFill>
                  <a:srgbClr val="000000"/>
                </a:solidFill>
                <a:latin typeface="Arial"/>
              </a:rPr>
              <a:t>go to the l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o mtn bi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lan that short ge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 increase in the amount of time that you get to spend w/ FAMILY..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just resting and recovering from work…with NO change to the way the department manages the administrative details i.e. payro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B10AC-50A4-4E9D-871F-2F86032C3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33FD2-5EC0-4A77-81F0-5C4760B24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31E82-A68A-44C6-992E-C907B0FE9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64D1B-9BFF-424F-9E76-62AFF44E8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B4DBA-68ED-4959-8756-09706998B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C37B1-FABD-4BFC-B6DC-368374788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7637F-CF35-4D08-B066-443549248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4A5B2-F999-4F25-B6C0-AFBA1E2B7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3D84D-6E24-4A68-B554-FEE505764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5FA87-C446-4754-A4C6-8940F9DEC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10442-152A-4582-8605-2135528F1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75AEE-E46C-4361-B3D0-D9771B8F3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B4497-1D09-4001-B0FC-F85458CD9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3AA15-1EB0-4957-AFBE-8737550FF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F0847-5685-430A-BCCA-7C7D411C8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86D21-6D65-4120-A66D-172DCA440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B23A5-4A44-4842-83E8-43BF03B32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52020-B609-483C-99BE-1D21AD500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0900D-832D-4E5B-A958-A9ECC6603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AA918-9079-4D2D-A315-E384B4CCB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CDD4D-B729-424D-8122-1209FD79C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820A5-EF0C-4AAF-919C-39E458BD1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CAF87-4CBA-46CC-898E-31EEE1260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BF51E-CA67-414D-B1ED-FF5DB9B09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0C56-EC5F-45C8-B0E4-3A4B33919F5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2A62-30A1-42B8-BA94-FCAB11DD5F5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8/96 Work Schedule</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6934320" cy="1981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ed by:</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gineer Todd Marty</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efighter/Operator Tim Swaner</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efighter/Operator Micah Rader</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9DADA141-CFDD-43DF-86C7-ABB8299036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nings at home not traveling to or from work</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Kelly</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of every 9</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3% of mornings at hom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20 per yea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8/96</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of every 6</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0% of mornings at hom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80 per yea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800" spc="-1" strike="noStrike">
                <a:solidFill>
                  <a:srgbClr val="ff0000"/>
                </a:solidFill>
                <a:latin typeface="Arial"/>
              </a:rPr>
              <a:t>60 more</a:t>
            </a:r>
            <a:r>
              <a:rPr b="0" lang="en-US" sz="2400" spc="-1" strike="noStrike">
                <a:solidFill>
                  <a:srgbClr val="ff0000"/>
                </a:solidFill>
                <a:latin typeface="Arial"/>
              </a:rPr>
              <a:t> (50% increas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4AA5D06-7AE4-46C4-A2ED-05DBC284C2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end rotation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Kelly</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1" lang="en-US" sz="1800" spc="-1" strike="noStrike">
                <a:solidFill>
                  <a:srgbClr val="003366"/>
                </a:solidFill>
                <a:latin typeface="Arial"/>
              </a:rPr>
              <a:t>48/96</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Sat / Sun</a:t>
            </a:r>
            <a:r>
              <a:rPr b="0" lang="en-US" sz="1800" spc="-1" strike="noStrike">
                <a:solidFill>
                  <a:srgbClr val="003366"/>
                </a:solidFill>
                <a:latin typeface="Arial"/>
              </a:rPr>
              <a:t>.</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u="sng">
                <a:solidFill>
                  <a:srgbClr val="003366"/>
                </a:solidFill>
                <a:uFillTx/>
                <a:latin typeface="Arial"/>
              </a:rPr>
              <a:t>Sat / Su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O</a:t>
            </a:r>
            <a:r>
              <a:rPr b="0" lang="en-US" sz="1800" spc="-1" strike="noStrike">
                <a:solidFill>
                  <a:srgbClr val="003366"/>
                </a:solidFill>
                <a:latin typeface="Arial"/>
              </a:rPr>
              <a:t>	</a:t>
            </a:r>
            <a:r>
              <a:rPr b="0" lang="en-US" sz="1800" spc="-1" strike="noStrike">
                <a:solidFill>
                  <a:srgbClr val="003366"/>
                </a:solidFill>
                <a:latin typeface="Arial"/>
              </a:rPr>
              <a:t>X</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X</a:t>
            </a:r>
            <a:r>
              <a:rPr b="0" lang="en-US" sz="1800" spc="-1" strike="noStrike">
                <a:solidFill>
                  <a:srgbClr val="003366"/>
                </a:solidFill>
                <a:latin typeface="Arial"/>
              </a:rPr>
              <a:t>	</a:t>
            </a:r>
            <a:r>
              <a:rPr b="0" lang="en-US" sz="1800" spc="-1" strike="noStrike">
                <a:solidFill>
                  <a:srgbClr val="003366"/>
                </a:solidFill>
                <a:latin typeface="Arial"/>
              </a:rPr>
              <a:t>X</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X</a:t>
            </a:r>
            <a:r>
              <a:rPr b="0" lang="en-US" sz="1800" spc="-1" strike="noStrike">
                <a:solidFill>
                  <a:srgbClr val="003366"/>
                </a:solidFill>
                <a:latin typeface="Arial"/>
              </a:rPr>
              <a:t>	</a:t>
            </a:r>
            <a:r>
              <a:rPr b="0" lang="en-US" sz="1800" spc="-1" strike="noStrike">
                <a:solidFill>
                  <a:srgbClr val="003366"/>
                </a:solidFill>
                <a:latin typeface="Arial"/>
              </a:rPr>
              <a: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O</a:t>
            </a:r>
            <a:r>
              <a:rPr b="0" lang="en-US" sz="1800" spc="-1" strike="noStrike">
                <a:solidFill>
                  <a:srgbClr val="003366"/>
                </a:solidFill>
                <a:latin typeface="Arial"/>
              </a:rPr>
              <a:t>	</a:t>
            </a:r>
            <a:r>
              <a:rPr b="0" lang="en-US" sz="1800" spc="-1" strike="noStrike">
                <a:solidFill>
                  <a:srgbClr val="003366"/>
                </a:solidFill>
                <a:latin typeface="Arial"/>
              </a:rPr>
              <a: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O</a:t>
            </a:r>
            <a:r>
              <a:rPr b="0" lang="en-US" sz="1800" spc="-1" strike="noStrike">
                <a:solidFill>
                  <a:srgbClr val="003366"/>
                </a:solidFill>
                <a:latin typeface="Arial"/>
              </a:rPr>
              <a:t>	</a:t>
            </a:r>
            <a:r>
              <a:rPr b="0" lang="en-US" sz="1800" spc="-1" strike="noStrike">
                <a:solidFill>
                  <a:srgbClr val="003366"/>
                </a:solidFill>
                <a:latin typeface="Arial"/>
              </a:rPr>
              <a: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   </a:t>
            </a:r>
            <a:r>
              <a:rPr b="0" lang="en-US" sz="1800" spc="-1" strike="noStrike">
                <a:solidFill>
                  <a:srgbClr val="003366"/>
                </a:solidFill>
                <a:latin typeface="Arial"/>
              </a:rPr>
              <a:t>	</a:t>
            </a:r>
            <a:r>
              <a:rPr b="0" lang="en-US" sz="1800" spc="-1" strike="noStrike">
                <a:solidFill>
                  <a:srgbClr val="003366"/>
                </a:solidFill>
                <a:latin typeface="Arial"/>
              </a:rPr>
              <a:t>X</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O</a:t>
            </a:r>
            <a:r>
              <a:rPr b="0" lang="en-US" sz="1800" spc="-1" strike="noStrike">
                <a:solidFill>
                  <a:srgbClr val="003366"/>
                </a:solidFill>
                <a:latin typeface="Arial"/>
              </a:rPr>
              <a:t>	</a:t>
            </a:r>
            <a:r>
              <a:rPr b="0" lang="en-US" sz="1800" spc="-1" strike="noStrike">
                <a:solidFill>
                  <a:srgbClr val="003366"/>
                </a:solidFill>
                <a:latin typeface="Arial"/>
              </a:rPr>
              <a: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X</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O</a:t>
            </a:r>
            <a:r>
              <a:rPr b="0" lang="en-US" sz="1800" spc="-1" strike="noStrike">
                <a:solidFill>
                  <a:srgbClr val="003366"/>
                </a:solidFill>
                <a:latin typeface="Arial"/>
              </a:rPr>
              <a:t>	</a:t>
            </a:r>
            <a:r>
              <a:rPr b="0" lang="en-US" sz="1800" spc="-1" strike="noStrike">
                <a:solidFill>
                  <a:srgbClr val="003366"/>
                </a:solidFill>
                <a:latin typeface="Arial"/>
              </a:rPr>
              <a: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r>
              <a:rPr b="0" lang="en-US" sz="1800" spc="-1" strike="noStrike">
                <a:solidFill>
                  <a:srgbClr val="003366"/>
                </a:solidFill>
                <a:latin typeface="Arial"/>
              </a:rPr>
              <a:t>	</a:t>
            </a:r>
            <a:r>
              <a:rPr b="0" lang="en-US" sz="1800" spc="-1" strike="noStrike">
                <a:solidFill>
                  <a:srgbClr val="003366"/>
                </a:solidFill>
                <a:latin typeface="Arial"/>
              </a:rPr>
              <a:t>X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Repe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e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 = 24 hour shift on duty, 0 = 24 hours off duty.</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DF4B1537-B915-465A-9D0A-FCC382E228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lete Weekends Off</a:t>
            </a:r>
            <a:br>
              <a:rPr sz="3600"/>
            </a:b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Kelly</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3% of weekends off per year</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 per yea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8/96</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0% of weekends off</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6 per yea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 more</a:t>
            </a:r>
            <a:r>
              <a:rPr b="0" lang="en-US" sz="2400" spc="-1" strike="noStrike">
                <a:solidFill>
                  <a:srgbClr val="ff0000"/>
                </a:solidFill>
                <a:latin typeface="Arial"/>
              </a:rPr>
              <a:t> (50% increase)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7D2A40A-4811-4B76-B010-B695AB727A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 One Weekend Day (Sat or Sun)</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Kell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5 per yea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8/96</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7 per yea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8 less</a:t>
            </a:r>
            <a:r>
              <a:rPr b="0" lang="en-US" sz="2800" spc="-1" strike="noStrike">
                <a:solidFill>
                  <a:srgbClr val="ff0000"/>
                </a:solidFill>
                <a:latin typeface="Arial"/>
              </a:rPr>
              <a:t> (50% reduction)</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BE700196-1677-43A5-8A06-08EAA27195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hort-term fatigue</a:t>
            </a:r>
            <a:br>
              <a:rPr sz="3600"/>
            </a:b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	</a:t>
            </a:r>
            <a:r>
              <a:rPr b="0" i="1" lang="en-US" sz="2800" spc="-1" strike="noStrike">
                <a:solidFill>
                  <a:srgbClr val="003366"/>
                </a:solidFill>
                <a:latin typeface="Arial"/>
              </a:rPr>
              <a:t>One of the biggest advantages of the 48/96 is that it allows employee more opportunity to recover from sleep deprivation/ long-term fatigue</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9A627B1-C630-45CF-A8BF-CA21A14183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tigue and the 48/96</a:t>
            </a:r>
            <a:br>
              <a:rPr sz="3600"/>
            </a:b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artments found that after the schedule change, the issues of increased fatigue were not realiz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artments found that over time the schedule can significantly </a:t>
            </a:r>
            <a:r>
              <a:rPr b="0" lang="en-US" sz="2400" spc="-1" strike="noStrike">
                <a:solidFill>
                  <a:srgbClr val="ff0000"/>
                </a:solidFill>
                <a:latin typeface="Arial"/>
              </a:rPr>
              <a:t>reduce</a:t>
            </a:r>
            <a:r>
              <a:rPr b="0" lang="en-US" sz="2400" spc="-1" strike="noStrike">
                <a:solidFill>
                  <a:srgbClr val="003366"/>
                </a:solidFill>
                <a:latin typeface="Arial"/>
              </a:rPr>
              <a:t> fatigu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increases in injuries or disabilities resulting from the schedule chan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partments have seen a reduction in sick leave use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4B8E606-C608-4698-A384-7FEF65D3F8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hort-term fatigue</a:t>
            </a:r>
            <a:br>
              <a:rPr sz="3600"/>
            </a:b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uring busy periods short-term fatigue would be expected to increase for some individuals working our current schedule, the 48/96, or with any schedu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s the nature of the bea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ees working extended shifts, 48s &amp; 72s, is not new to ERFPD.</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2B2F4AA8-61BF-4087-94CB-2BFE5BAF17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48/96 decreases long term fatigue in many ways </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The 48/96 increases rest periods (4-days) by 50%, increasing the number from 40 to 60 a year</a:t>
            </a:r>
            <a:r>
              <a:rPr b="0" i="1" lang="en-US" sz="2800" spc="-1" strike="noStrike">
                <a:solidFill>
                  <a:srgbClr val="003366"/>
                </a:solidFill>
                <a:latin typeface="Arial"/>
              </a:rPr>
              <a:t>.</a:t>
            </a:r>
            <a:r>
              <a:rPr b="0" lang="en-US" sz="2800" spc="-1" strike="noStrike">
                <a:solidFill>
                  <a:srgbClr val="003366"/>
                </a:solidFill>
                <a:latin typeface="Arial"/>
              </a:rPr>
              <a:t> </a:t>
            </a:r>
            <a:endParaRPr b="0" lang="en-US" sz="2800" spc="-1" strike="noStrike">
              <a:solidFill>
                <a:srgbClr val="003366"/>
              </a:solidFill>
              <a:latin typeface="Arial"/>
            </a:endParaRPr>
          </a:p>
          <a:p>
            <a:pPr lvl="1" marL="914400" indent="-457200">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requency of “4-days” increases to a “4-day” every 6 days as opposed to every 9 days with the Kelly schedul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1741AB4-15C9-440B-B911-371FB16418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48/96 decreases long term fatigue in </a:t>
            </a:r>
            <a:r>
              <a:rPr b="1" lang="en-US" sz="3600" spc="-1" strike="noStrike">
                <a:solidFill>
                  <a:srgbClr val="006666"/>
                </a:solidFill>
                <a:latin typeface="Arial"/>
                <a:ea typeface="Arial"/>
              </a:rPr>
              <a:t>many</a:t>
            </a:r>
            <a:r>
              <a:rPr b="1" lang="en-US" sz="3600" spc="-1" strike="noStrike">
                <a:solidFill>
                  <a:srgbClr val="006666"/>
                </a:solidFill>
                <a:latin typeface="Arial"/>
              </a:rPr>
              <a:t> ways</a:t>
            </a:r>
            <a:endParaRPr b="1" lang="en-US" sz="36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The 48/96 increases the number of “sleep in days” (days waking up at home and not going to work) by 60%, increasing the number from 9 to 15 per month.</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DDD56BAA-A4B7-4C18-B15D-25731C37D7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48/96 decreases long term fatigue in many ways</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The 48/96 reduces the number of days/hours an employee spends getting ready for work and time in the commute by 50%.</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C998311-1056-446D-AE08-948132BD0E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48/96?</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45720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8 hours on/96 hours off</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thing differ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thing progressiv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33A03A8-B9D9-4A8A-937C-4A2E073609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ck Leave and the 48/96 Schedule</a:t>
            </a:r>
            <a:br>
              <a:rPr sz="3600"/>
            </a:b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departments that have switched from the 3/4 schedule (Kelly schedule) to the 48/96 have reported significant reductions in sick leave use after switching to the 48/96.</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EEBCD90-5DDB-4D1E-9DDB-B4492BFF79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me true examples</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acifica Fire Department</a:t>
            </a:r>
            <a:r>
              <a:rPr b="0" lang="en-US" sz="2400" spc="-1" strike="noStrike">
                <a:solidFill>
                  <a:srgbClr val="003366"/>
                </a:solidFill>
                <a:latin typeface="Arial"/>
              </a:rPr>
              <a:t> had a 20% reduction sick leave use after switching to the 48/96 schedul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inneapolis Fire Department</a:t>
            </a:r>
            <a:r>
              <a:rPr b="0" lang="en-US" sz="2400" spc="-1" strike="noStrike">
                <a:solidFill>
                  <a:srgbClr val="003366"/>
                </a:solidFill>
                <a:latin typeface="Arial"/>
              </a:rPr>
              <a:t> switched to a modified 48/96 schedule and saw an overall reduction in sick leave use by 34%</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anhattan Beach Fire Department</a:t>
            </a:r>
            <a:r>
              <a:rPr b="0" lang="en-US" sz="2400" spc="-1" strike="noStrike">
                <a:solidFill>
                  <a:srgbClr val="003366"/>
                </a:solidFill>
                <a:latin typeface="Arial"/>
              </a:rPr>
              <a:t> had an 80% reduction in sick leave use after switching to the 48/96 schedul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alf Moon Bay Fire Department </a:t>
            </a:r>
            <a:r>
              <a:rPr b="0" lang="en-US" sz="2400" spc="-1" strike="noStrike">
                <a:solidFill>
                  <a:srgbClr val="003366"/>
                </a:solidFill>
                <a:latin typeface="Arial"/>
              </a:rPr>
              <a:t>had a 10% reduction in sick leave use after switching to the 48/96 schedu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70E5FDB-CE4B-40C2-9528-F4A4005E50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al Findings</a:t>
            </a:r>
            <a:br>
              <a:rPr sz="3600"/>
            </a:br>
            <a:endParaRPr b="1" lang="en-US" sz="36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were departments motivation for a schedule change?</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crease in rest perio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le to live further away resulting in a home to live i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time at home with fami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7396675-BFFE-41EF-A295-3540DF7DB7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al Findings</a:t>
            </a:r>
            <a:br>
              <a:rPr sz="3600"/>
            </a:b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did other departments seek to change to this schedul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means of attracting and maintaining employe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y saw the positive benefits and improvements in morale in surrounding departments who had switched to the 48/96</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AA418B0C-2798-4D61-91BE-DADF0CD9A5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mber Voting results</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departments voted on the 48/96 issue in one way or another before contacting their departments.  Generally there were two votes:  one to initiate a trial period and one to make it official at the end of the trial period.  </a:t>
            </a:r>
            <a:r>
              <a:rPr b="0" lang="en-US" sz="2800" spc="-1" strike="noStrike">
                <a:solidFill>
                  <a:srgbClr val="ff0000"/>
                </a:solidFill>
                <a:latin typeface="Arial"/>
              </a:rPr>
              <a:t>In EVERY case the number of “yes” votes increased significantly once the trial period was over.</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871B818B-F84D-4872-B006-21BEBE78F0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the benefits that the departments experienced?</a:t>
            </a:r>
            <a:endParaRPr b="1" lang="en-US" sz="36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ed morale was a comment heard over and over.  </a:t>
            </a:r>
            <a:endParaRPr b="0" lang="en-US" sz="28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loyees are well rested after “4 days off” and are eager to come to work.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loyees felt more productive and better organized on and off duty. </a:t>
            </a:r>
            <a:endParaRPr b="0" lang="en-US" sz="2400" spc="-1" strike="noStrike">
              <a:solidFill>
                <a:srgbClr val="003366"/>
              </a:solidFill>
              <a:latin typeface="Arial"/>
            </a:endParaRPr>
          </a:p>
          <a:p>
            <a:pPr lvl="1" marL="735480" indent="-28296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wer transitions between shifts made for less duplication, better communication and more operational continuity.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87D2B4C9-DDC9-4819-AFBD-1A26A029D7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the benefits that the departments experienced?</a:t>
            </a:r>
            <a:endParaRPr b="1" lang="en-US" sz="36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creased productivity and project follow through on dut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mployees found the schedule allowed for more flexibility in scheduling daily work over two day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Members with program responsibilities can leave paperwork on their desk to work on for two day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llow-up meetings and phone calls are easier to follow up on the second day.</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E38B129A-A9B0-437F-BA19-CF3490887A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the benefits that the departments experienced?</a:t>
            </a:r>
            <a:endParaRPr b="1" lang="en-US" sz="36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etter communication between shifts</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tion of lost information at shift exchang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ess duplication of work</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opping for food can be done once on the first shift for both day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leaves more time for training, cleaning and maintenance.</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39E2328-3915-4584-B77A-FC41AD44F7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re the benefits that the departments experienced?</a:t>
            </a:r>
            <a:endParaRPr b="1" lang="en-US" sz="36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schedule has already been adopted by Shift Calendars, Inc. This is the company that we currently use for our shift calendars.</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C0856584-F4DA-4EA8-80F1-19E3CF6B7B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lestaff</a:t>
            </a:r>
            <a:endParaRPr b="1" lang="en-US" sz="3600" spc="-1" strike="noStrike">
              <a:solidFill>
                <a:srgbClr val="006666"/>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lestaff can easily be adapted to the 48/96 schedule. Other departments on the 48/96 use Telestaff, including ERFPD.</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37DC1C35-FE13-4BA0-AE7A-E29EE47236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48/96 and the Fire Service</a:t>
            </a:r>
            <a:endParaRPr b="1" lang="en-US" sz="3600" spc="-1" strike="noStrike">
              <a:solidFill>
                <a:srgbClr val="006666"/>
              </a:solidFill>
              <a:latin typeface="Arial"/>
            </a:endParaRPr>
          </a:p>
        </p:txBody>
      </p:sp>
      <p:sp>
        <p:nvSpPr>
          <p:cNvPr id="106" name="PlaceHolder 1"/>
          <p:cNvSpPr>
            <a:spLocks noGrp="1"/>
          </p:cNvSpPr>
          <p:nvPr>
            <p:ph/>
          </p:nvPr>
        </p:nvSpPr>
        <p:spPr>
          <a:xfrm>
            <a:off x="838080" y="2438280"/>
            <a:ext cx="7848720" cy="335304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tilized by professional fire departments since the early 1990’s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despread and rapidly gaining in popularity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ver two dozen departments switching to the 48/96 in the last five years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s schedule is not a theoretical experiment in the fire service but a proven and valid schedule option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partments using the schedule are diverse in their demographics, management structure, and overall philosophies</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8199E168-B01D-48BB-A416-AAAD1CFAA6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60"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this time the response to this schedule is overwhelmingly positive.</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gressive change supported 100% by the Union and the student-residents.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0EFDC31-ED4D-4A81-B508-0B32CA58CC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62"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8/96: A Simple Solu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are very fortunate to have a group of young, hard working, dedicated employees which should make transition easy and favorable for all.</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38F3D80C-7E5A-40CA-92AC-3877EEED61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6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change to the number days worked or hours work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gle River Fire does not see the consistent call volumes that these bigger departments see.</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21DF6C5-86E9-453C-9268-ECEDCB9C5F5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ose a trial period of one year at which time we can sit down and discuss implem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ce a department has switched to the 48/96 schedule, none have returned to their prior schedule. </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92175C9-88A0-4C89-BD04-C2D135CDDB3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Concerns/Comments</a:t>
            </a:r>
            <a:endParaRPr b="1" lang="en-US" sz="3600" spc="-1" strike="noStrike">
              <a:solidFill>
                <a:srgbClr val="006666"/>
              </a:solidFill>
              <a:latin typeface="Arial"/>
            </a:endParaRPr>
          </a:p>
        </p:txBody>
      </p:sp>
      <p:sp>
        <p:nvSpPr>
          <p:cNvPr id="2" name="PlaceHolder 1"/>
          <p:cNvSpPr>
            <a:spLocks noGrp="1"/>
          </p:cNvSpPr>
          <p:nvPr>
            <p:ph type="sldNum" idx="3"/>
          </p:nvPr>
        </p:nvSpPr>
        <p:spPr/>
        <p:txBody>
          <a:bodyPr/>
          <a:p>
            <a:fld id="{5BBB4DC8-4A2B-473C-9649-9B294AD6C26D}"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re Departments working the 48/96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9250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buquerque Fire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ponds on over 50,000 calls a yea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x of Albuquerque’s 21 stations run between 350 and 500 calls a month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2 to 17 calls per d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6 to 51 calls per tou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form AL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as been working the 48/96 for nine years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447CD1AA-F491-4170-AB84-803253E950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re Departments working the 48/96 Con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ity of San Bernardino Fire Department</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 station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ree stations run 350 to 500 calls per mon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2 to 17 calls per d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6 to 51 call per tour</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7AC6CD18-E906-4203-9679-63B582EC41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esting finding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of the departments working the 48/96 share an overwhelming level of satisfaction with the schedul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ne of the agencies chose to return to their previous schedule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C51DEF91-A428-499F-B174-CA6210F545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arisons of the 48/96</a:t>
            </a:r>
            <a:br>
              <a:rPr sz="3600"/>
            </a:br>
            <a:r>
              <a:rPr b="1" lang="en-US" sz="3600" spc="-1" strike="noStrike">
                <a:solidFill>
                  <a:srgbClr val="006666"/>
                </a:solidFill>
                <a:latin typeface="Arial"/>
              </a:rPr>
              <a:t> vs. the Kelly Schedule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ct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o differences for administration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Platoons, </a:t>
            </a:r>
            <a:r>
              <a:rPr b="0" lang="en-US" sz="2800" spc="-1" strike="noStrike">
                <a:solidFill>
                  <a:srgbClr val="ff0000"/>
                </a:solidFill>
                <a:latin typeface="Arial"/>
              </a:rPr>
              <a:t>A</a:t>
            </a:r>
            <a:r>
              <a:rPr b="0" lang="en-US" sz="2800" spc="-1" strike="noStrike">
                <a:solidFill>
                  <a:srgbClr val="009900"/>
                </a:solidFill>
                <a:latin typeface="Arial"/>
              </a:rPr>
              <a:t>B</a:t>
            </a:r>
            <a:r>
              <a:rPr b="0" lang="en-US" sz="2800" spc="-1" strike="noStrike">
                <a:solidFill>
                  <a:srgbClr val="0000ff"/>
                </a:solidFill>
                <a:latin typeface="Arial"/>
              </a:rPr>
              <a:t>C</a:t>
            </a:r>
            <a:r>
              <a:rPr b="0" lang="en-US" sz="2800" spc="-1" strike="noStrike">
                <a:solidFill>
                  <a:srgbClr val="003366"/>
                </a:solidFill>
                <a:latin typeface="Arial"/>
              </a:rPr>
              <a:t> shif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6 hours per we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12 hours per pay perio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21 shifts per yea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CB705582-9634-4827-A479-AB3A2EDBB9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fics to each schedule</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four-days per ye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nings at home not traveling to or from work per ye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ekend ro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complete weekends of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weekend statistic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4172624B-DE46-4D30-824F-68FD7B7C8F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mber of four-days per year</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Kell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 per yea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8/96</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 per year</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0 more</a:t>
            </a:r>
            <a:r>
              <a:rPr b="0" lang="en-US" sz="2800" spc="-1" strike="noStrike">
                <a:solidFill>
                  <a:srgbClr val="ff0000"/>
                </a:solidFill>
                <a:latin typeface="Arial"/>
              </a:rPr>
              <a:t> per year (50% increase)</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50571414-CD00-455B-B470-7EBF9DB8F2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7:49:02Z</dcterms:created>
  <dc:creator>tmarty</dc:creator>
  <dc:description/>
  <dc:language>en-US</dc:language>
  <cp:lastModifiedBy>Gateway_User</cp:lastModifiedBy>
  <cp:lastPrinted>2004-08-07T14:00:09Z</cp:lastPrinted>
  <dcterms:modified xsi:type="dcterms:W3CDTF">2006-09-27T00:21:40Z</dcterms:modified>
  <cp:revision>17</cp:revision>
  <dc:subject/>
  <dc:title>48/96 work schedule</dc:title>
</cp:coreProperties>
</file>